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2E2D-94E1-40AE-9F41-6996F1EEE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01EF-FE4A-42D3-9567-69CFF9DD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2BF7-D796-4A01-839E-C2A302DE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2DEF-997F-4A6D-98D8-4720601E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3C2D-44DB-484C-B5B9-3988B8FE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0B3-CBE8-4B64-BAE9-793C30BFA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3F9D-ED68-4963-94E5-FAFD2074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D6B-1297-4CE8-B777-A21556C2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D9D-58C0-4EAB-9B3A-E84D6D5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7703-4D93-4369-884A-09E55CE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109-D01D-4C69-9D37-732334E29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80A6-8118-45E5-BA9A-BE8F4BE69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E668-7FF1-44BB-A53F-F4F51F587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DE285-3CBA-48EA-BA2E-FA730A07E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F3579-D247-48AC-AEB4-2779BEF4D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CF08E-0007-4521-93BE-D912BE32F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6DC3F-AFE4-4C8B-A3AF-AA353578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E8ED8-EE3C-449E-95D4-B298591F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F14-7233-4D9C-A4F0-1BF8976B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FB60A-8D84-4151-9019-AC366D67E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96D61-7613-484A-919B-7E5D92320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79F48-52A0-4446-9902-EFC6A779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F5A66-F8CB-4359-BAD9-FD063449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97A7-B45B-4F6D-BC33-B515FB1A2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05EB6-CFFA-4B57-BB1F-BF479772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4A6BE-87C3-4331-A529-F69396D0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E7534C-EAC1-4C0E-A931-C399ACB4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47DDDB-8B36-4832-AC34-B5C0756A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FA07D-8142-4B43-9ACC-F10147F8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0A71-08D5-45F9-884D-CCBD19A3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60089-217D-4E94-9CCC-73DCFDC1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445DF-7CEB-41CD-998C-7D3C14B16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32D61-72D6-40B8-A086-EC197CFFC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6E5BE-D654-4250-9764-06D6F9411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F1423-54D0-4D46-B1B4-BA500BA0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0B472-98CB-4658-BDF9-5406C1DF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97623-75CD-4FD6-9E69-E937515CC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647CE-E5D6-49C3-A896-C561C2858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A467-2CBE-4925-BFD3-BE6FBAD24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D14A2-4D6C-44B5-AF6B-5BA4E99A2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FD033-E25E-49F3-ABA4-A6C818DA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1A63E-BFDB-484F-B999-12D1F73A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8121C-F73C-4D1B-8768-1D0B79170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E36B5-5E2E-4A09-98EF-6E5C637F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0831C-24A0-4F98-ABAF-7F4D6FCC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BD3A6C-323A-4F33-8E3E-01B161F5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8D181-9136-40DE-A526-A29976F8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25712-378E-4F1D-9464-2DFE7C470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6CDD9-3F5D-4BC2-9C0D-A0A6F7441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77CF21-A743-4D74-8539-CCC86F35D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4A01A-01C4-4BBE-92C5-67E6375EB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C3840-2E0E-4BFB-9B05-9A57263A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1A261-BE17-45A4-B56A-2528118E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FDBC-755D-4658-897C-0B234A8B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BCAB9B-42F3-45C8-829B-39B51F9F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15249-9A52-44C5-AC9F-E5C0F67B7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EF65C-E83D-4FD8-82EF-49BF8051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97929-2C13-4EF8-8968-75427A74E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FE94CE-7466-4784-83BC-7F6A94FF5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DB66B-7BB3-4D88-82D9-D1250C19D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8E4C8-674F-4539-8DFA-77E12DD9F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52E24-4264-436D-84C9-54A2DC47D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4B1FDF-F32E-4AF3-8964-32BB2588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E112F3-CE07-4785-9EA7-EA550F0D7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2714B-9C24-460D-908D-D0C2DE887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35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F473E-5679-4000-995A-499A67B19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5D436-F627-483F-AD22-331D5DCB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17A9AB-00E2-4EE6-8B61-AE1602FB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7C98C-1625-47F3-A032-2BF0A471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35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0937F4-D1FF-4D82-8F35-E828E4E4B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32680" y="160452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6232680" y="3682080"/>
            <a:ext cx="53550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8FE093-5E7B-4B8A-A861-7B706506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32000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8030520" y="160452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432000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8030520" y="3682080"/>
            <a:ext cx="35334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BD8B45-228D-4510-B6C9-93D0F565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" descr=""/>
          <p:cNvPicPr/>
          <p:nvPr/>
        </p:nvPicPr>
        <p:blipFill>
          <a:blip r:embed="rId3"/>
          <a:stretch/>
        </p:blipFill>
        <p:spPr>
          <a:xfrm>
            <a:off x="0" y="-1440"/>
            <a:ext cx="12192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35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35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E47D-E056-457A-BF3E-870156FFE768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81B2-E3EF-4FF4-A6CB-0B5C03AE41FE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FF51-D35A-4682-A7AF-4329E6506598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AEC2F-433D-457F-BC80-5B5627E95335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D42DE-78E2-4B23-B51F-04C15E46372A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d-ID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75C0-9445-458F-9037-9CE6DAC623A3}" type="slidenum">
              <a:rPr b="0" lang="id-ID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1"/>
          <p:cNvSpPr/>
          <p:nvPr/>
        </p:nvSpPr>
        <p:spPr>
          <a:xfrm>
            <a:off x="3592440" y="724320"/>
            <a:ext cx="47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PENERIMAAN MAHASISWA BA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JALUR MANDIRI TAHUN 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60000"/>
                </a:solidFill>
                <a:latin typeface="Times New Roman"/>
                <a:ea typeface="Times New Roman"/>
              </a:rPr>
              <a:t>ISI SURAKA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11"/>
          <p:cNvSpPr/>
          <p:nvPr/>
        </p:nvSpPr>
        <p:spPr>
          <a:xfrm>
            <a:off x="4375080" y="2138400"/>
            <a:ext cx="6572160" cy="2014200"/>
          </a:xfrm>
          <a:prstGeom prst="rect">
            <a:avLst/>
          </a:prstGeom>
          <a:solidFill>
            <a:srgbClr val="ffffff"/>
          </a:solidFill>
          <a:ln w="190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ama Peserta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NISN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Asal Sekolah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ambria"/>
                <a:ea typeface="Cambria"/>
              </a:rPr>
              <a:t>: ………………………………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itle 1"/>
          <p:cNvSpPr/>
          <p:nvPr/>
        </p:nvSpPr>
        <p:spPr>
          <a:xfrm>
            <a:off x="1104840" y="2138400"/>
            <a:ext cx="2865600" cy="3944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mbria"/>
              </a:rPr>
              <a:t>Cantumkan foto terbaru seluruh badan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Box 1"/>
          <p:cNvSpPr/>
          <p:nvPr/>
        </p:nvSpPr>
        <p:spPr>
          <a:xfrm>
            <a:off x="4494240" y="3013200"/>
            <a:ext cx="32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Pengalaman dan Prestasi di Bidang Musik/Etnomusikolo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1"/>
          <p:cNvSpPr/>
          <p:nvPr/>
        </p:nvSpPr>
        <p:spPr>
          <a:xfrm>
            <a:off x="4079880" y="2104920"/>
            <a:ext cx="328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Bukti Prestasi (Jika Ada/Disarank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2889360" y="3808440"/>
            <a:ext cx="62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d-ID" sz="1800" spc="-1" strike="noStrike">
                <a:solidFill>
                  <a:srgbClr val="595959"/>
                </a:solidFill>
                <a:latin typeface="Calibri"/>
                <a:ea typeface="Calibri"/>
              </a:rPr>
              <a:t>Bagi peserta yang memiliki bukti prestasi </a:t>
            </a:r>
            <a:r>
              <a:rPr b="1" i="1" lang="id-ID" sz="1800" spc="-1" strike="noStrike">
                <a:solidFill>
                  <a:srgbClr val="595959"/>
                </a:solidFill>
                <a:latin typeface="Calibri"/>
                <a:ea typeface="Calibri"/>
              </a:rPr>
              <a:t>disarankan</a:t>
            </a:r>
            <a:r>
              <a:rPr b="0" i="1" lang="id-ID" sz="1800" spc="-1" strike="noStrike">
                <a:solidFill>
                  <a:srgbClr val="595959"/>
                </a:solidFill>
                <a:latin typeface="Calibri"/>
                <a:ea typeface="Calibri"/>
              </a:rPr>
              <a:t> untuk menyertakan scan bukti sertifikat, piagam, surat keterangan, dan alamat link unggah karya di media seperti youtube, facebook, twitter, blog, atau laman web (jika ad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Box 5"/>
          <p:cNvSpPr/>
          <p:nvPr/>
        </p:nvSpPr>
        <p:spPr>
          <a:xfrm>
            <a:off x="4338720" y="3013200"/>
            <a:ext cx="351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Deskripsi Diri atas Motivasi dan Tuju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Memilih Prodi Etnomusikolo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Box 5"/>
          <p:cNvSpPr/>
          <p:nvPr/>
        </p:nvSpPr>
        <p:spPr>
          <a:xfrm>
            <a:off x="4452840" y="3013200"/>
            <a:ext cx="32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Surat Pernyata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Orisinalitas Data/Dokum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2626"/>
                </a:solidFill>
                <a:latin typeface="Calibri"/>
              </a:rPr>
              <a:t>(Hasil Pindai/Sc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8T07:10:12Z</dcterms:created>
  <dc:creator>asyarief</dc:creator>
  <dc:description/>
  <dc:language>en-US</dc:language>
  <cp:lastModifiedBy>NIKMATUZ ZUHRA AINY</cp:lastModifiedBy>
  <dcterms:modified xsi:type="dcterms:W3CDTF">2025-05-13T03:07:31Z</dcterms:modified>
  <cp:revision>32</cp:revision>
  <dc:subject/>
  <dc:title>Slide 1</dc:title>
</cp:coreProperties>
</file>